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wmf" ContentType="image/x-wmf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b3b3b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06BBA-D52E-42C9-8705-93A8D90E5C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98D59-9369-4D1C-8068-CFD619624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5E2E2-531D-42FF-B031-32F6022CA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33F1F-4924-4CDE-92DC-2623ACF51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F9FA3-3054-48F1-A306-476223139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12BD4-DD4C-4D8A-B42F-99D396D20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58EF-3BC7-4DBD-A0D2-8901AE26A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D8B6-8DBD-4EEF-92D8-DEFD516F9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57F9-AB2B-4DBF-A28D-6A7B10D75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328D-DAD6-4D3C-B70B-DB42CD823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3DDF4-2336-4158-9FCE-1637FAE62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714A3-B7C1-4BB2-8D25-B7768132D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D6230-BED6-4808-A715-BD726420F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CCF71-E6DF-4586-A943-CCD9AEF7E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8FE1A-4847-483E-BCA3-E870619DF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26B8B-0372-4499-B251-4F5F50303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DF236-4F20-47B2-8872-C49FE7E0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F80A-B812-478A-9CFB-DBA678282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E46B1-6BFE-478E-B00A-13D85580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8B61E-AF72-49E5-95A5-51EE56E2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561D4-A661-4485-AACB-DD5D34C19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5CC88-7D3D-4774-8790-385D8CD97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639EF-ECF4-4AD0-BD83-6D044F923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8FAD3-CADF-44AB-98E8-0EFFB1F08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026DB-B94D-428A-8C90-A23B44CE7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057B9-0A81-4AAB-B5D0-D30B9FB6E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58324-83EE-463A-A7F6-5DBC16236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F264F-122D-494E-8159-FC6BA7BF9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6B78-67A2-49BE-9654-A23CDE63D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899B0-5527-45EC-B74A-5EC98A5E4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E2AB5-CEEA-42F1-873F-1B533C6E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7DC71-B6B0-485F-A80C-701F399F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F4ED5-5A25-44CC-A433-36894792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C7142-E581-47F4-85D1-73C564CAD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C90D8-BAFF-45E8-B825-CB2F51030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A113F-E923-4B1B-907C-53DD6E7D7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5AD9D-A65D-4FE8-BDEE-CB5B63A36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AC281-BE1B-4C06-B3D5-1474BDC27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97F9D-479D-4021-BD71-23931301B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21B6-7BAF-47E3-8935-BCECDA91B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4CD4E-E0BC-4693-9AB8-025C4867F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E37DF-F0ED-4247-B8CD-7E9D5FCA3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5A5AF-252F-4B91-804C-846E86C9C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FDC09-DD31-4BC6-B674-CD3FA4D78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F70C7-27FF-443E-906E-2FD3161C9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4E374-9697-4407-9345-0816633D9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41FF8-BD79-447E-B0F2-20578B986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2F8EB-8D5B-4653-B691-CE77395A3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6F2BE-7EB6-41CE-AC21-6E8605AF0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E53FA8-7DB3-454F-A8B0-B0630A184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42F5-27C9-40A2-A9DA-E9B9F9F51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114AB-2E36-4E4E-A882-503096890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6562D-36EB-4664-9694-FA583B257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2C6E0-07D9-407B-B47A-E83347801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445A65-D30F-4AF1-927E-19F69D5E9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5E9FD7-7ACF-4510-9D49-50B4B73FC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B9351-E062-4F20-9CEC-1FFEE7F38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184183-871D-4744-8854-4A4E2F902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67F933-5781-4DBC-B33C-1BE92A931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033F5-7D08-455C-9D4A-73A896F41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A6615-6A95-49EB-8B11-6124DCAA0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41D6-BAF0-43BD-98AD-A6BA2F91C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EE08C6-8046-445D-BFD7-0C6675292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EE22-48A6-40EA-B95A-27590378C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3C28-6B3D-4FD5-ADB6-D6795293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33C2-A529-4125-8154-D4FC30068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b3b3b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ccaf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acdd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8d89a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8d89a4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6ea0b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5C569-8B7B-44E6-AFAF-5435AF94CE6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6ea0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bacd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e92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b3b3b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ccaf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acdd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8d89a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8d89a4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6ea0b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0E1F5-7DB8-43F0-A63E-BCF7D1749FD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6ea0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bacd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e92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b3b3b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ccaf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acdd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8d89a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8d89a4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6ea0b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8A974-E5F7-43C4-ACFC-25FCBEB93FF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b3b3b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ccaf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acdd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8d89a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8d89a4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6ea0b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2B5BB-A661-4609-9AC9-CA243823D8B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6ea0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bacd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e92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b3b3b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ccaf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acdd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8d89a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8d89a4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6ea0b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A6D68-9A76-49DC-9CBE-C315A6AC527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b3b3b"/>
                </a:solidFill>
                <a:latin typeface="Britannic Bold"/>
              </a:rPr>
              <a:t>By the </a:t>
            </a:r>
            <a:r>
              <a:rPr b="0" lang="en-US" sz="4400" spc="-1" strike="noStrike">
                <a:solidFill>
                  <a:srgbClr val="a116e0"/>
                </a:solidFill>
                <a:latin typeface="Britannic Bold"/>
              </a:rPr>
              <a:t>RED</a:t>
            </a:r>
            <a:r>
              <a:rPr b="0" lang="en-US" sz="2600" spc="-1" strike="noStrike">
                <a:solidFill>
                  <a:srgbClr val="3b3b3b"/>
                </a:solidFill>
                <a:latin typeface="Britannic Bold"/>
              </a:rPr>
              <a:t> team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b3b3b"/>
                </a:solidFill>
                <a:latin typeface="Britannic Bold"/>
              </a:rPr>
              <a:t>Tyler, Nikki, Mega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itannic Bold"/>
              </a:rPr>
              <a:t>What properties do the “R” groups have?</a:t>
            </a:r>
            <a:endParaRPr b="0" lang="en-US" sz="4000" spc="-1" strike="noStrike">
              <a:solidFill>
                <a:srgbClr val="3b3b3b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3733920" y="837720"/>
            <a:ext cx="5029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ritannic Bold"/>
              </a:rPr>
              <a:t>Nonpola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ritannic Bold"/>
              </a:rPr>
              <a:t>Hydrophobic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rush Script MT"/>
              </a:rPr>
              <a:t>CARBON AND HYDROGE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oudy Stout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oudy Stout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Goudy Stout"/>
              </a:rPr>
              <a:t>CHUMPS!!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8" name="Picture 4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3378240" cy="35812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6" descr="Charlie-Brown-Rolling-Eyes"/>
          <p:cNvPicPr/>
          <p:nvPr/>
        </p:nvPicPr>
        <p:blipFill>
          <a:blip r:embed="rId2"/>
          <a:stretch/>
        </p:blipFill>
        <p:spPr>
          <a:xfrm>
            <a:off x="4648320" y="3581280"/>
            <a:ext cx="1828800" cy="15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4495680" y="53352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ritannic Bold"/>
              </a:rPr>
              <a:t>Polar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ritannic Bold"/>
              </a:rPr>
              <a:t>Hydrophilic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1" name="Picture 4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2630520" cy="4267080"/>
          </a:xfrm>
          <a:prstGeom prst="rect">
            <a:avLst/>
          </a:prstGeom>
          <a:ln w="0">
            <a:noFill/>
          </a:ln>
        </p:spPr>
      </p:pic>
      <p:cxnSp>
        <p:nvCxnSpPr>
          <p:cNvPr id="242" name="AutoShape 6"/>
          <p:cNvCxnSpPr/>
          <p:nvPr/>
        </p:nvCxnSpPr>
        <p:spPr>
          <a:xfrm flipH="1" flipV="1">
            <a:off x="3047400" y="5409360"/>
            <a:ext cx="68652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3" name="WordArt 7"/>
          <p:cNvSpPr txBox="1"/>
          <p:nvPr/>
        </p:nvSpPr>
        <p:spPr>
          <a:xfrm>
            <a:off x="3886200" y="5257800"/>
            <a:ext cx="2590920" cy="102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B*tchy Que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44" name="Picture 8" descr=""/>
          <p:cNvPicPr/>
          <p:nvPr/>
        </p:nvPicPr>
        <p:blipFill>
          <a:blip r:embed="rId2"/>
          <a:stretch/>
        </p:blipFill>
        <p:spPr>
          <a:xfrm>
            <a:off x="5029200" y="2133720"/>
            <a:ext cx="228600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4038480" y="990720"/>
            <a:ext cx="4267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ritannic Bold"/>
              </a:rPr>
              <a:t>Pola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ritannic Bold"/>
              </a:rPr>
              <a:t>Hydrophilic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2043000" cy="6248520"/>
          </a:xfrm>
          <a:prstGeom prst="rect">
            <a:avLst/>
          </a:prstGeom>
          <a:ln w="0">
            <a:noFill/>
          </a:ln>
        </p:spPr>
      </p:pic>
      <p:sp>
        <p:nvSpPr>
          <p:cNvPr id="247" name="Curved Up Arrow 5"/>
          <p:cNvSpPr/>
          <p:nvPr/>
        </p:nvSpPr>
        <p:spPr>
          <a:xfrm flipH="1">
            <a:off x="1752480" y="6019920"/>
            <a:ext cx="2895840" cy="685800"/>
          </a:xfrm>
          <a:custGeom>
            <a:avLst/>
            <a:gdLst>
              <a:gd name="textAreaLeft" fmla="*/ 662400 w 2895840"/>
              <a:gd name="textAreaRight" fmla="*/ 2138040 w 289584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880" hR="21600" stAng="10800000" swAng="-5400000"/>
                <a:lnTo>
                  <a:pt x="11004" y="21600"/>
                </a:lnTo>
                <a:arcTo wR="9880" hR="21600" stAng="5400000" swAng="-3537712"/>
                <a:lnTo>
                  <a:pt x="21246" y="5732"/>
                </a:lnTo>
                <a:lnTo>
                  <a:pt x="20321" y="0"/>
                </a:lnTo>
                <a:lnTo>
                  <a:pt x="18688" y="5732"/>
                </a:lnTo>
                <a:lnTo>
                  <a:pt x="19405" y="5732"/>
                </a:lnTo>
                <a:arcTo wR="9880" hR="21600" stAng="1862288" swAng="3448142"/>
                <a:lnTo>
                  <a:pt x="10442" y="21565"/>
                </a:lnTo>
                <a:arcTo wR="9880" hR="21600" stAng="5489570" swAng="5310430"/>
                <a:close/>
              </a:path>
              <a:path fill="darkenLess" w="21600" h="21600">
                <a:moveTo>
                  <a:pt x="0" y="0"/>
                </a:moveTo>
                <a:arcTo wR="9880" hR="21600" stAng="10800000" swAng="-5400000"/>
                <a:lnTo>
                  <a:pt x="11004" y="21600"/>
                </a:lnTo>
                <a:arcTo wR="9880" hR="21600" stAng="5400000" swAng="89570"/>
                <a:lnTo>
                  <a:pt x="10442" y="21565"/>
                </a:lnTo>
                <a:arcTo wR="9880" hR="21600" stAng="5489570" swAng="5310430"/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WordArt 7"/>
          <p:cNvSpPr txBox="1"/>
          <p:nvPr/>
        </p:nvSpPr>
        <p:spPr>
          <a:xfrm>
            <a:off x="3886200" y="4876920"/>
            <a:ext cx="2971800" cy="102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Not so B*tchy Que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49" name="Picture 7" descr="C:\Users\David\AppData\Local\Microsoft\Windows\Temporary Internet Files\Content.IE5\1YPIF7VL\MC900432265[1].wmf"/>
          <p:cNvPicPr/>
          <p:nvPr/>
        </p:nvPicPr>
        <p:blipFill>
          <a:blip r:embed="rId2"/>
          <a:srcRect l="0" t="0" r="0" b="19577"/>
          <a:stretch/>
        </p:blipFill>
        <p:spPr>
          <a:xfrm rot="21421200">
            <a:off x="4226040" y="3247920"/>
            <a:ext cx="188280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426672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ritannic Bold"/>
              </a:rPr>
              <a:t>Pola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ritannic Bold"/>
              </a:rPr>
              <a:t>Hydrophilic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1" name="Picture 4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1555920" cy="3276720"/>
          </a:xfrm>
          <a:prstGeom prst="rect">
            <a:avLst/>
          </a:prstGeom>
          <a:ln w="0">
            <a:noFill/>
          </a:ln>
        </p:spPr>
      </p:pic>
      <p:sp>
        <p:nvSpPr>
          <p:cNvPr id="252" name="Curved Up Arrow 5"/>
          <p:cNvSpPr/>
          <p:nvPr/>
        </p:nvSpPr>
        <p:spPr>
          <a:xfrm flipH="1">
            <a:off x="1447200" y="5029200"/>
            <a:ext cx="2895480" cy="685800"/>
          </a:xfrm>
          <a:custGeom>
            <a:avLst/>
            <a:gdLst>
              <a:gd name="textAreaLeft" fmla="*/ 661680 w 2895480"/>
              <a:gd name="textAreaRight" fmla="*/ 2136960 w 289548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880" hR="21600" stAng="10800000" swAng="-5400000"/>
                <a:lnTo>
                  <a:pt x="11004" y="21600"/>
                </a:lnTo>
                <a:arcTo wR="9880" hR="21600" stAng="5400000" swAng="-3537712"/>
                <a:lnTo>
                  <a:pt x="21246" y="5732"/>
                </a:lnTo>
                <a:lnTo>
                  <a:pt x="20321" y="0"/>
                </a:lnTo>
                <a:lnTo>
                  <a:pt x="18688" y="5732"/>
                </a:lnTo>
                <a:lnTo>
                  <a:pt x="19405" y="5732"/>
                </a:lnTo>
                <a:arcTo wR="9880" hR="21600" stAng="1862288" swAng="3448142"/>
                <a:lnTo>
                  <a:pt x="10442" y="21565"/>
                </a:lnTo>
                <a:arcTo wR="9880" hR="21600" stAng="5489570" swAng="5310430"/>
                <a:close/>
              </a:path>
              <a:path fill="darkenLess" w="21600" h="21600">
                <a:moveTo>
                  <a:pt x="0" y="0"/>
                </a:moveTo>
                <a:arcTo wR="9880" hR="21600" stAng="10800000" swAng="-5400000"/>
                <a:lnTo>
                  <a:pt x="11004" y="21600"/>
                </a:lnTo>
                <a:arcTo wR="9880" hR="21600" stAng="5400000" swAng="89570"/>
                <a:lnTo>
                  <a:pt x="10442" y="21565"/>
                </a:lnTo>
                <a:arcTo wR="9880" hR="21600" stAng="5489570" swAng="5310430"/>
                <a:close/>
              </a:path>
            </a:pathLst>
          </a:custGeom>
          <a:solidFill>
            <a:srgbClr val="800080"/>
          </a:solidFill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WordArt 7"/>
          <p:cNvSpPr txBox="1"/>
          <p:nvPr/>
        </p:nvSpPr>
        <p:spPr>
          <a:xfrm>
            <a:off x="3200400" y="3657600"/>
            <a:ext cx="2590920" cy="102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B*tchy Que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6248520" y="3352680"/>
            <a:ext cx="228600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14:19:00Z</dcterms:created>
  <dc:creator>vinoscience</dc:creator>
  <dc:description/>
  <dc:language>en-US</dc:language>
  <cp:lastModifiedBy>xpstudent</cp:lastModifiedBy>
  <dcterms:modified xsi:type="dcterms:W3CDTF">2010-09-23T14:23:09Z</dcterms:modified>
  <cp:revision>6</cp:revision>
  <dc:subject/>
  <dc:title>What properties do the “R” groups have?</dc:title>
</cp:coreProperties>
</file>